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8074-A4B5-46BD-BA3E-1A3CA9C6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DAE-4B1E-4444-BA1E-92444F4A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C03-B9ED-4F3E-B9BA-A97E086C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A9C9-A542-4BE1-899A-CC51C4CE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1456-5090-44D6-9436-180A9DD6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D11F-38C4-425D-AF8C-AA549A6C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CA2-3B04-4EC3-840B-E0F13E67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47FF-6ACE-48DA-9537-0F85785B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C6D-4F67-4810-98AE-1ADE1240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A6F7-0FE9-4095-B427-24519C6B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9B2-E0A0-47AB-AD26-B6FD8ED0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A418-497A-4531-9F59-E61DBB2D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3B0E-02A0-496D-B66E-A9C400F96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3:36:00Z</dcterms:created>
  <dc:creator> </dc:creator>
  <dc:description/>
  <dc:language>en-US</dc:language>
  <cp:lastModifiedBy> </cp:lastModifiedBy>
  <dcterms:modified xsi:type="dcterms:W3CDTF">2009-02-26T13:36:08Z</dcterms:modified>
  <cp:revision>1</cp:revision>
  <dc:subject/>
  <dc:title>Slide 1</dc:title>
</cp:coreProperties>
</file>